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10.gif" ContentType="image/gif"/>
  <Override PartName="/ppt/media/image9.gif" ContentType="image/gif"/>
  <Override PartName="/ppt/media/image8.jpeg" ContentType="image/jpeg"/>
  <Override PartName="/ppt/media/image18.jpeg" ContentType="image/jpeg"/>
  <Override PartName="/ppt/media/image17.jpeg" ContentType="image/jpeg"/>
  <Override PartName="/ppt/media/image15.gif" ContentType="image/gif"/>
  <Override PartName="/ppt/media/image14.gif" ContentType="image/gif"/>
  <Override PartName="/ppt/media/image2.jpeg" ContentType="image/jpeg"/>
  <Override PartName="/ppt/media/image4.jpeg" ContentType="image/jpeg"/>
  <Override PartName="/ppt/media/image13.gif" ContentType="image/gif"/>
  <Override PartName="/ppt/media/image16.jpeg" ContentType="image/jpeg"/>
  <Override PartName="/ppt/media/image5.jpeg" ContentType="image/jpeg"/>
  <Override PartName="/ppt/media/image11.gif" ContentType="image/gif"/>
  <Override PartName="/ppt/media/image6.png" ContentType="image/png"/>
  <Override PartName="/ppt/media/image7.png" ContentType="image/png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C4DF-DB72-4C39-B9CB-AC1F0ECA5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AC95-BED6-4435-9A45-52471B1D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4FE8-8D83-4CC4-B4B2-3809FC3A9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4A29-2370-4185-8460-3DA36B631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2126-39AB-46C7-905D-F7D1C658BB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6ED7-97B5-4DA9-87EF-3A66A178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0FC8-4BD6-4CC9-BF87-E8B999F3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61CF-0431-4303-B38E-4B79912F8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B187-30A1-4372-9105-BBFB05909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4BE09-EB9F-478B-9C59-5E8A47366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5424-2D29-4D89-A1A3-1F387243F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EC85-1D1B-42A1-95C9-857C268F6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6D8F-6126-4372-A54D-D73F2E204E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image" Target="../media/image8.jpeg"/><Relationship Id="rId6" Type="http://schemas.openxmlformats.org/officeDocument/2006/relationships/image" Target="../media/image8.jpeg"/><Relationship Id="rId7" Type="http://schemas.openxmlformats.org/officeDocument/2006/relationships/image" Target="../media/image8.jpeg"/><Relationship Id="rId8" Type="http://schemas.openxmlformats.org/officeDocument/2006/relationships/image" Target="../media/image8.jpeg"/><Relationship Id="rId9" Type="http://schemas.openxmlformats.org/officeDocument/2006/relationships/image" Target="../media/image8.jpeg"/><Relationship Id="rId10" Type="http://schemas.openxmlformats.org/officeDocument/2006/relationships/image" Target="../media/image8.jpeg"/><Relationship Id="rId11" Type="http://schemas.openxmlformats.org/officeDocument/2006/relationships/image" Target="../media/image8.jpeg"/><Relationship Id="rId12" Type="http://schemas.openxmlformats.org/officeDocument/2006/relationships/image" Target="../media/image11.gif"/><Relationship Id="rId13" Type="http://schemas.openxmlformats.org/officeDocument/2006/relationships/image" Target="../media/image11.gif"/><Relationship Id="rId14" Type="http://schemas.openxmlformats.org/officeDocument/2006/relationships/image" Target="../media/image11.gif"/><Relationship Id="rId15" Type="http://schemas.openxmlformats.org/officeDocument/2006/relationships/image" Target="../media/image11.gif"/><Relationship Id="rId16" Type="http://schemas.openxmlformats.org/officeDocument/2006/relationships/image" Target="../media/image11.gif"/><Relationship Id="rId17" Type="http://schemas.openxmlformats.org/officeDocument/2006/relationships/image" Target="../media/image11.gif"/><Relationship Id="rId18" Type="http://schemas.openxmlformats.org/officeDocument/2006/relationships/image" Target="../media/image9.gif"/><Relationship Id="rId19" Type="http://schemas.openxmlformats.org/officeDocument/2006/relationships/image" Target="../media/image9.gif"/><Relationship Id="rId20" Type="http://schemas.openxmlformats.org/officeDocument/2006/relationships/image" Target="../media/image12.gif"/><Relationship Id="rId21" Type="http://schemas.openxmlformats.org/officeDocument/2006/relationships/image" Target="../media/image12.gif"/><Relationship Id="rId22" Type="http://schemas.openxmlformats.org/officeDocument/2006/relationships/image" Target="../media/image12.gif"/><Relationship Id="rId23" Type="http://schemas.openxmlformats.org/officeDocument/2006/relationships/image" Target="../media/image12.gif"/><Relationship Id="rId24" Type="http://schemas.openxmlformats.org/officeDocument/2006/relationships/image" Target="../media/image12.gif"/><Relationship Id="rId25" Type="http://schemas.openxmlformats.org/officeDocument/2006/relationships/image" Target="../media/image2.jpeg"/><Relationship Id="rId26" Type="http://schemas.openxmlformats.org/officeDocument/2006/relationships/image" Target="../media/image2.jpeg"/><Relationship Id="rId27" Type="http://schemas.openxmlformats.org/officeDocument/2006/relationships/image" Target="../media/image2.jpeg"/><Relationship Id="rId28" Type="http://schemas.openxmlformats.org/officeDocument/2006/relationships/image" Target="../media/image2.jpeg"/><Relationship Id="rId29" Type="http://schemas.openxmlformats.org/officeDocument/2006/relationships/image" Target="../media/image2.jpeg"/><Relationship Id="rId30" Type="http://schemas.openxmlformats.org/officeDocument/2006/relationships/image" Target="../media/image2.jpeg"/><Relationship Id="rId31" Type="http://schemas.openxmlformats.org/officeDocument/2006/relationships/image" Target="../media/image2.jpeg"/><Relationship Id="rId32" Type="http://schemas.openxmlformats.org/officeDocument/2006/relationships/image" Target="../media/image2.jpeg"/><Relationship Id="rId33" Type="http://schemas.openxmlformats.org/officeDocument/2006/relationships/image" Target="../media/image2.jpeg"/><Relationship Id="rId34" Type="http://schemas.openxmlformats.org/officeDocument/2006/relationships/image" Target="../media/image13.gif"/><Relationship Id="rId35" Type="http://schemas.openxmlformats.org/officeDocument/2006/relationships/image" Target="../media/image13.gif"/><Relationship Id="rId36" Type="http://schemas.openxmlformats.org/officeDocument/2006/relationships/image" Target="../media/image13.gif"/><Relationship Id="rId37" Type="http://schemas.openxmlformats.org/officeDocument/2006/relationships/image" Target="../media/image13.gif"/><Relationship Id="rId38" Type="http://schemas.openxmlformats.org/officeDocument/2006/relationships/image" Target="../media/image14.gif"/><Relationship Id="rId39" Type="http://schemas.openxmlformats.org/officeDocument/2006/relationships/image" Target="../media/image14.gif"/><Relationship Id="rId40" Type="http://schemas.openxmlformats.org/officeDocument/2006/relationships/image" Target="../media/image14.gif"/><Relationship Id="rId41" Type="http://schemas.openxmlformats.org/officeDocument/2006/relationships/image" Target="../media/image14.gif"/><Relationship Id="rId42" Type="http://schemas.openxmlformats.org/officeDocument/2006/relationships/image" Target="../media/image14.gif"/><Relationship Id="rId43" Type="http://schemas.openxmlformats.org/officeDocument/2006/relationships/image" Target="../media/image14.gif"/><Relationship Id="rId44" Type="http://schemas.openxmlformats.org/officeDocument/2006/relationships/image" Target="../media/image15.gif"/><Relationship Id="rId45" Type="http://schemas.openxmlformats.org/officeDocument/2006/relationships/image" Target="../media/image3.jpeg"/><Relationship Id="rId4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66"/>
                </a:solidFill>
                <a:latin typeface="Arial"/>
              </a:rPr>
              <a:t>Здравствуйте, юные земляне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2556000" y="1600200"/>
            <a:ext cx="61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Я - житель  Аглакитак, в нашей звездной системе девять солнц. Меня зовут Ютеес, мне 99 днызь, это соответствует 9 земным годам, я учусь в межгалактической школе. Я приглашаю  вас в  космическое путешествие на новую планету Ятевд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Рисунок 1" descr="C:\Documents and Settings\Best\Рабочий стол\_copy.jpg"/>
          <p:cNvPicPr/>
          <p:nvPr/>
        </p:nvPicPr>
        <p:blipFill>
          <a:blip r:embed="rId1"/>
          <a:stretch/>
        </p:blipFill>
        <p:spPr>
          <a:xfrm>
            <a:off x="539640" y="1916280"/>
            <a:ext cx="23241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1197000" cy="21859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659640" y="189000"/>
            <a:ext cx="2286000" cy="1971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324000" y="3357720"/>
            <a:ext cx="2301840" cy="261936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7524720" y="4221000"/>
            <a:ext cx="1182600" cy="2186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2843280" y="1341360"/>
            <a:ext cx="3257640" cy="22161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108000" y="2637000"/>
            <a:ext cx="230508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ая подготовк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24000" y="6165720"/>
            <a:ext cx="28000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059280" y="3716280"/>
            <a:ext cx="274464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236000" y="6453360"/>
            <a:ext cx="179856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иземление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2924280"/>
            <a:ext cx="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1979640" y="4076280"/>
            <a:ext cx="3024000" cy="201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300720" y="2852280"/>
            <a:ext cx="719280" cy="50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093080" y="2997360"/>
            <a:ext cx="10080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050920" y="404640"/>
            <a:ext cx="43624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Карта путешествия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443640" y="2349360"/>
            <a:ext cx="2581200" cy="428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 скоростью света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 Млечному Пут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4716360" y="4581360"/>
            <a:ext cx="1719360" cy="17179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4427640" y="4724280"/>
            <a:ext cx="66492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179280" y="1557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1763640" y="2205000"/>
            <a:ext cx="647640" cy="7873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2268360" y="62064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5"/>
          <a:stretch/>
        </p:blipFill>
        <p:spPr>
          <a:xfrm>
            <a:off x="755640" y="189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6"/>
          <a:stretch/>
        </p:blipFill>
        <p:spPr>
          <a:xfrm>
            <a:off x="1332000" y="333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7"/>
          <a:stretch/>
        </p:blipFill>
        <p:spPr>
          <a:xfrm>
            <a:off x="611280" y="54936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8"/>
          <a:stretch/>
        </p:blipFill>
        <p:spPr>
          <a:xfrm>
            <a:off x="1187280" y="765000"/>
            <a:ext cx="552600" cy="336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9"/>
          <a:stretch/>
        </p:blipFill>
        <p:spPr>
          <a:xfrm>
            <a:off x="108000" y="836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0"/>
          <a:stretch/>
        </p:blipFill>
        <p:spPr>
          <a:xfrm>
            <a:off x="684360" y="105264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1"/>
          <a:stretch/>
        </p:blipFill>
        <p:spPr>
          <a:xfrm>
            <a:off x="1258920" y="1197000"/>
            <a:ext cx="552240" cy="336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2"/>
          <a:stretch/>
        </p:blipFill>
        <p:spPr>
          <a:xfrm>
            <a:off x="2916360" y="76500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13"/>
          <a:stretch/>
        </p:blipFill>
        <p:spPr>
          <a:xfrm>
            <a:off x="3635280" y="692280"/>
            <a:ext cx="657360" cy="5950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14"/>
          <a:stretch/>
        </p:blipFill>
        <p:spPr>
          <a:xfrm>
            <a:off x="1908000" y="1197000"/>
            <a:ext cx="657360" cy="5954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15"/>
          <a:stretch/>
        </p:blipFill>
        <p:spPr>
          <a:xfrm>
            <a:off x="255600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16"/>
          <a:stretch/>
        </p:blipFill>
        <p:spPr>
          <a:xfrm>
            <a:off x="3203640" y="1268280"/>
            <a:ext cx="657000" cy="5954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7"/>
          <a:stretch/>
        </p:blipFill>
        <p:spPr>
          <a:xfrm>
            <a:off x="3851280" y="1197000"/>
            <a:ext cx="657360" cy="59544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2700360" y="0"/>
            <a:ext cx="4608360" cy="371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едполётные испытания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8"/>
          <a:stretch/>
        </p:blipFill>
        <p:spPr>
          <a:xfrm>
            <a:off x="539640" y="1773360"/>
            <a:ext cx="636840" cy="636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19"/>
          <a:stretch/>
        </p:blipFill>
        <p:spPr>
          <a:xfrm>
            <a:off x="971640" y="1628640"/>
            <a:ext cx="636480" cy="6368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0"/>
          <a:stretch/>
        </p:blipFill>
        <p:spPr>
          <a:xfrm>
            <a:off x="2627280" y="206064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1"/>
          <a:stretch/>
        </p:blipFill>
        <p:spPr>
          <a:xfrm>
            <a:off x="3203640" y="213372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2"/>
          <a:stretch/>
        </p:blipFill>
        <p:spPr>
          <a:xfrm>
            <a:off x="3851280" y="1916280"/>
            <a:ext cx="557280" cy="5252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3"/>
          <a:stretch/>
        </p:blipFill>
        <p:spPr>
          <a:xfrm>
            <a:off x="2771640" y="256536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4"/>
          <a:stretch/>
        </p:blipFill>
        <p:spPr>
          <a:xfrm>
            <a:off x="3708360" y="2492280"/>
            <a:ext cx="557280" cy="5256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5"/>
          <a:stretch/>
        </p:blipFill>
        <p:spPr>
          <a:xfrm>
            <a:off x="32400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6"/>
          <a:stretch/>
        </p:blipFill>
        <p:spPr>
          <a:xfrm>
            <a:off x="971640" y="2924280"/>
            <a:ext cx="560160" cy="46332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7"/>
          <a:stretch/>
        </p:blipFill>
        <p:spPr>
          <a:xfrm>
            <a:off x="17928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8"/>
          <a:stretch/>
        </p:blipFill>
        <p:spPr>
          <a:xfrm>
            <a:off x="755640" y="350028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9"/>
          <a:stretch/>
        </p:blipFill>
        <p:spPr>
          <a:xfrm>
            <a:off x="1403280" y="335772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0"/>
          <a:stretch/>
        </p:blipFill>
        <p:spPr>
          <a:xfrm>
            <a:off x="108000" y="414972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1"/>
          <a:stretch/>
        </p:blipFill>
        <p:spPr>
          <a:xfrm>
            <a:off x="684360" y="4076640"/>
            <a:ext cx="560160" cy="4636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2"/>
          <a:stretch/>
        </p:blipFill>
        <p:spPr>
          <a:xfrm>
            <a:off x="1258920" y="4005360"/>
            <a:ext cx="560520" cy="46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3"/>
          <a:stretch/>
        </p:blipFill>
        <p:spPr>
          <a:xfrm>
            <a:off x="1908000" y="3789360"/>
            <a:ext cx="560520" cy="463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4"/>
          <a:stretch/>
        </p:blipFill>
        <p:spPr>
          <a:xfrm>
            <a:off x="2340000" y="4724280"/>
            <a:ext cx="595440" cy="5241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5"/>
          <a:stretch/>
        </p:blipFill>
        <p:spPr>
          <a:xfrm>
            <a:off x="3419640" y="472428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6"/>
          <a:stretch/>
        </p:blipFill>
        <p:spPr>
          <a:xfrm>
            <a:off x="284328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7"/>
          <a:stretch/>
        </p:blipFill>
        <p:spPr>
          <a:xfrm>
            <a:off x="3924360" y="5445000"/>
            <a:ext cx="595080" cy="5241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8"/>
          <a:stretch/>
        </p:blipFill>
        <p:spPr>
          <a:xfrm>
            <a:off x="298764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9"/>
          <a:stretch/>
        </p:blipFill>
        <p:spPr>
          <a:xfrm>
            <a:off x="3564000" y="314172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0"/>
          <a:stretch/>
        </p:blipFill>
        <p:spPr>
          <a:xfrm>
            <a:off x="4211640" y="3068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41"/>
          <a:stretch/>
        </p:blipFill>
        <p:spPr>
          <a:xfrm>
            <a:off x="2700360" y="386064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2"/>
          <a:stretch/>
        </p:blipFill>
        <p:spPr>
          <a:xfrm>
            <a:off x="3276720" y="378936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3"/>
          <a:stretch/>
        </p:blipFill>
        <p:spPr>
          <a:xfrm>
            <a:off x="3851280" y="3716280"/>
            <a:ext cx="484200" cy="6508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44"/>
          <a:stretch/>
        </p:blipFill>
        <p:spPr>
          <a:xfrm>
            <a:off x="971640" y="4797360"/>
            <a:ext cx="920520" cy="11844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45"/>
          <a:stretch/>
        </p:blipFill>
        <p:spPr>
          <a:xfrm>
            <a:off x="7974000" y="0"/>
            <a:ext cx="1170000" cy="10256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08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81200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94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236000" y="141300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52472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81200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10108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8360" y="112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8836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08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8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8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8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8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8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8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8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37236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65964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94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6000" y="206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52472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59640" y="141300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10108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388360" y="206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88360" y="177336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42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8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810108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81200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2472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23600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94836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659640" y="2708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372360" y="270828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8360" y="306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38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10108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1200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52472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23600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94836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659640" y="335772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372360" y="335772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388360" y="371628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38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10108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81200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52472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23600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94836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659640" y="4005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72360" y="400536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388360" y="436572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838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10108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81200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2472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3600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94836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4653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372360" y="465300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388360" y="501336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38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10108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81200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52472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723600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94836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59640" y="5300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72360" y="53006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388360" y="566100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8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388360" y="63086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838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81200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52472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94836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659640" y="5950080"/>
            <a:ext cx="26676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6372360" y="5950080"/>
            <a:ext cx="266400" cy="266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10108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81200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3600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94836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659640" y="6591240"/>
            <a:ext cx="26676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372360" y="6591240"/>
            <a:ext cx="266400" cy="266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8459640" y="1052640"/>
            <a:ext cx="11448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7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8459640" y="170028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8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8459640" y="234936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9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8459640" y="299736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8459640" y="364500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8459640" y="4292640"/>
            <a:ext cx="14292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8459640" y="4941720"/>
            <a:ext cx="152640" cy="3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8459640" y="5589720"/>
            <a:ext cx="1335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8459640" y="6237360"/>
            <a:ext cx="104760" cy="32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2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"/>
          <p:cNvSpPr/>
          <p:nvPr/>
        </p:nvSpPr>
        <p:spPr>
          <a:xfrm>
            <a:off x="838836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2000" y="4005360"/>
            <a:ext cx="19548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52472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236000" y="4005360"/>
            <a:ext cx="195120" cy="1951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2349360"/>
            <a:ext cx="172872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870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Рисунок 1" descr=""/>
          <p:cNvPicPr/>
          <p:nvPr/>
        </p:nvPicPr>
        <p:blipFill>
          <a:blip r:embed="rId1"/>
          <a:stretch/>
        </p:blipFill>
        <p:spPr>
          <a:xfrm>
            <a:off x="611280" y="404640"/>
            <a:ext cx="1301760" cy="115596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2987640" y="457920"/>
            <a:ext cx="4773600" cy="19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Calibri"/>
              </a:rPr>
              <a:t>        </a:t>
            </a: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1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62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я используй эту подсказку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5" name=""/>
          <p:cNvGraphicFramePr/>
          <p:nvPr/>
        </p:nvGraphicFramePr>
        <p:xfrm>
          <a:off x="1979640" y="1989000"/>
          <a:ext cx="6121440" cy="2619360"/>
        </p:xfrm>
        <a:graphic>
          <a:graphicData uri="http://schemas.openxmlformats.org/drawingml/2006/table">
            <a:tbl>
              <a:tblPr/>
              <a:tblGrid>
                <a:gridCol w="4997520"/>
                <a:gridCol w="536400"/>
                <a:gridCol w="58752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читал(а) предметы каждой групп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ёл(а) линию к цифре, которая обозначает данное число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рисовал(а) кружочки в соответствие с цифро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  <p:sp>
        <p:nvSpPr>
          <p:cNvPr id="216" name=""/>
          <p:cNvSpPr/>
          <p:nvPr/>
        </p:nvSpPr>
        <p:spPr>
          <a:xfrm>
            <a:off x="1899360" y="4616640"/>
            <a:ext cx="534420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везде ответил(а) </a:t>
            </a:r>
            <a:r>
              <a:rPr b="1" lang="en-US" sz="2400" spc="-1" strike="noStrike">
                <a:solidFill>
                  <a:srgbClr val="943634"/>
                </a:solidFill>
                <a:latin typeface="Arial"/>
                <a:ea typeface="Calibri"/>
              </a:rPr>
              <a:t>да</a:t>
            </a: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то работа выполнена, неси на провер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Если есть недочёты, то додела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1811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Arial"/>
                <a:ea typeface="Calibri"/>
              </a:rPr>
              <a:t>Удачи теб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7451640" y="0"/>
            <a:ext cx="1692360" cy="112536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7936200" y="1262880"/>
            <a:ext cx="12096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2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8   + 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4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6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7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1   +  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5   +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3   +  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1403280" y="0"/>
            <a:ext cx="5040360" cy="26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ткрытие новой планеты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404640"/>
            <a:ext cx="6660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1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68360" y="404640"/>
            <a:ext cx="4486320" cy="295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Разбей на части и составь выраж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-800280" y="1001880"/>
            <a:ext cx="9144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"/>
          <p:cNvGrpSpPr/>
          <p:nvPr/>
        </p:nvGrpSpPr>
        <p:grpSpPr>
          <a:xfrm>
            <a:off x="1143360" y="536040"/>
            <a:ext cx="2571120" cy="1205280"/>
            <a:chOff x="1143360" y="536040"/>
            <a:chExt cx="2571120" cy="1205280"/>
          </a:xfrm>
        </p:grpSpPr>
        <p:sp>
          <p:nvSpPr>
            <p:cNvPr id="224" name="AutoShape 4"/>
            <p:cNvSpPr/>
            <p:nvPr/>
          </p:nvSpPr>
          <p:spPr>
            <a:xfrm flipH="1">
              <a:off x="1143360" y="716400"/>
              <a:ext cx="739440" cy="1024560"/>
            </a:xfrm>
            <a:custGeom>
              <a:avLst/>
              <a:gdLst>
                <a:gd name="textAreaLeft" fmla="*/ 36000 w 739440"/>
                <a:gd name="textAreaRight" fmla="*/ 703440 w 73944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25">
                  <a:moveTo>
                    <a:pt x="3600" y="0"/>
                  </a:moveTo>
                  <a:arcTo wR="3600" hR="3600" stAng="16200000" swAng="-5400000"/>
                  <a:lnTo>
                    <a:pt x="0" y="26325"/>
                  </a:lnTo>
                  <a:arcTo wR="3600" hR="3600" stAng="10800000" swAng="-5400000"/>
                  <a:lnTo>
                    <a:pt x="18000" y="2992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319400" y="536040"/>
              <a:ext cx="35100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165040" y="536040"/>
              <a:ext cx="446040" cy="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b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186720" y="536040"/>
              <a:ext cx="77760" cy="15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8" name=""/>
            <p:cNvGrpSpPr/>
            <p:nvPr/>
          </p:nvGrpSpPr>
          <p:grpSpPr>
            <a:xfrm>
              <a:off x="1213200" y="806040"/>
              <a:ext cx="610200" cy="790200"/>
              <a:chOff x="1213200" y="806040"/>
              <a:chExt cx="610200" cy="790200"/>
            </a:xfrm>
          </p:grpSpPr>
          <p:sp>
            <p:nvSpPr>
              <p:cNvPr id="229" name=""/>
              <p:cNvSpPr/>
              <p:nvPr/>
            </p:nvSpPr>
            <p:spPr>
              <a:xfrm>
                <a:off x="156492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213200" y="806040"/>
                <a:ext cx="25848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2484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156492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12834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156492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63548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45944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3539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8" name="AutoShape 4"/>
            <p:cNvSpPr/>
            <p:nvPr/>
          </p:nvSpPr>
          <p:spPr>
            <a:xfrm flipH="1">
              <a:off x="2974320" y="716400"/>
              <a:ext cx="739800" cy="102456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560"/>
                <a:gd name="textAreaBottom" fmla="*/ 988560 h 1024560"/>
              </a:gdLst>
              <a:ahLst/>
              <a:rect l="textAreaLeft" t="textAreaTop" r="textAreaRight" b="textAreaBottom"/>
              <a:pathLst>
                <a:path w="21600" h="29910">
                  <a:moveTo>
                    <a:pt x="3600" y="0"/>
                  </a:moveTo>
                  <a:arcTo wR="3600" hR="3600" stAng="16200000" swAng="-5400000"/>
                  <a:lnTo>
                    <a:pt x="0" y="26310"/>
                  </a:lnTo>
                  <a:arcTo wR="3600" hR="3600" stAng="10800000" swAng="-5400000"/>
                  <a:lnTo>
                    <a:pt x="18000" y="2991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AutoShape 4"/>
            <p:cNvSpPr/>
            <p:nvPr/>
          </p:nvSpPr>
          <p:spPr>
            <a:xfrm flipH="1">
              <a:off x="2058120" y="716400"/>
              <a:ext cx="739800" cy="1024920"/>
            </a:xfrm>
            <a:custGeom>
              <a:avLst/>
              <a:gdLst>
                <a:gd name="textAreaLeft" fmla="*/ 36000 w 739800"/>
                <a:gd name="textAreaRight" fmla="*/ 703800 w 739800"/>
                <a:gd name="textAreaTop" fmla="*/ 36000 h 1024920"/>
                <a:gd name="textAreaBottom" fmla="*/ 988920 h 1024920"/>
              </a:gdLst>
              <a:ahLst/>
              <a:rect l="textAreaLeft" t="textAreaTop" r="textAreaRight" b="textAreaBottom"/>
              <a:pathLst>
                <a:path w="21600" h="29921">
                  <a:moveTo>
                    <a:pt x="3600" y="0"/>
                  </a:moveTo>
                  <a:arcTo wR="3600" hR="3600" stAng="16200000" swAng="-5400000"/>
                  <a:lnTo>
                    <a:pt x="0" y="26321"/>
                  </a:lnTo>
                  <a:arcTo wR="3600" hR="3600" stAng="10800000" swAng="-5400000"/>
                  <a:lnTo>
                    <a:pt x="18000" y="2992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"/>
            <p:cNvGrpSpPr/>
            <p:nvPr/>
          </p:nvGrpSpPr>
          <p:grpSpPr>
            <a:xfrm>
              <a:off x="2129400" y="806040"/>
              <a:ext cx="610920" cy="790200"/>
              <a:chOff x="2129400" y="806040"/>
              <a:chExt cx="610920" cy="790200"/>
            </a:xfrm>
          </p:grpSpPr>
          <p:sp>
            <p:nvSpPr>
              <p:cNvPr id="241" name=""/>
              <p:cNvSpPr/>
              <p:nvPr/>
            </p:nvSpPr>
            <p:spPr>
              <a:xfrm>
                <a:off x="248148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129400" y="806040"/>
                <a:ext cx="258840" cy="21996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2164680" y="1106280"/>
                <a:ext cx="210600" cy="17964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481480" y="1106280"/>
                <a:ext cx="211320" cy="17964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21996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2481480" y="149652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552040" y="134676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376000" y="134676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270160" y="149652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0" name=""/>
            <p:cNvGrpSpPr/>
            <p:nvPr/>
          </p:nvGrpSpPr>
          <p:grpSpPr>
            <a:xfrm>
              <a:off x="3045600" y="836640"/>
              <a:ext cx="610920" cy="789480"/>
              <a:chOff x="3045600" y="836640"/>
              <a:chExt cx="610920" cy="789480"/>
            </a:xfrm>
          </p:grpSpPr>
          <p:sp>
            <p:nvSpPr>
              <p:cNvPr id="251" name=""/>
              <p:cNvSpPr/>
              <p:nvPr/>
            </p:nvSpPr>
            <p:spPr>
              <a:xfrm>
                <a:off x="339768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3045600" y="836640"/>
                <a:ext cx="258840" cy="219600"/>
              </a:xfrm>
              <a:prstGeom prst="rect">
                <a:avLst/>
              </a:prstGeom>
              <a:solidFill>
                <a:srgbClr val="ff0000"/>
              </a:solidFill>
              <a:ln w="1260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80880" y="1136520"/>
                <a:ext cx="210600" cy="179280"/>
              </a:xfrm>
              <a:prstGeom prst="ellipse">
                <a:avLst/>
              </a:prstGeom>
              <a:solidFill>
                <a:srgbClr val="ff0000"/>
              </a:solidFill>
              <a:ln w="3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397680" y="1136520"/>
                <a:ext cx="211320" cy="17928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31158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3397680" y="152640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468240" y="1376640"/>
                <a:ext cx="11700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292200" y="1376640"/>
                <a:ext cx="11736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3186360" y="1526400"/>
                <a:ext cx="117720" cy="99720"/>
              </a:xfrm>
              <a:prstGeom prst="ellipse">
                <a:avLst/>
              </a:prstGeom>
              <a:solidFill>
                <a:srgbClr val="0000ff"/>
              </a:solidFill>
              <a:ln w="32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120" bIns="241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0" name=""/>
          <p:cNvSpPr/>
          <p:nvPr/>
        </p:nvSpPr>
        <p:spPr>
          <a:xfrm>
            <a:off x="971640" y="16995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форм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979640" y="1749960"/>
            <a:ext cx="123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цвет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916360" y="176436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</a:rPr>
              <a:t>по размеру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"/>
          <p:cNvGrpSpPr/>
          <p:nvPr/>
        </p:nvGrpSpPr>
        <p:grpSpPr>
          <a:xfrm>
            <a:off x="900000" y="2060640"/>
            <a:ext cx="890640" cy="139680"/>
            <a:chOff x="900000" y="2060640"/>
            <a:chExt cx="890640" cy="139680"/>
          </a:xfrm>
        </p:grpSpPr>
        <p:sp>
          <p:nvSpPr>
            <p:cNvPr id="264" name=""/>
            <p:cNvSpPr/>
            <p:nvPr/>
          </p:nvSpPr>
          <p:spPr>
            <a:xfrm>
              <a:off x="9000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391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5786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979640" y="2060640"/>
            <a:ext cx="890640" cy="139680"/>
            <a:chOff x="1979640" y="2060640"/>
            <a:chExt cx="890640" cy="139680"/>
          </a:xfrm>
        </p:grpSpPr>
        <p:sp>
          <p:nvSpPr>
            <p:cNvPr id="268" name=""/>
            <p:cNvSpPr/>
            <p:nvPr/>
          </p:nvSpPr>
          <p:spPr>
            <a:xfrm>
              <a:off x="19796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31876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265824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3059280" y="2060640"/>
            <a:ext cx="890280" cy="139680"/>
            <a:chOff x="3059280" y="2060640"/>
            <a:chExt cx="890280" cy="139680"/>
          </a:xfrm>
        </p:grpSpPr>
        <p:sp>
          <p:nvSpPr>
            <p:cNvPr id="272" name=""/>
            <p:cNvSpPr/>
            <p:nvPr/>
          </p:nvSpPr>
          <p:spPr>
            <a:xfrm>
              <a:off x="305928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39840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737520" y="206064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1042920" y="1915560"/>
            <a:ext cx="38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12400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03640" y="1989000"/>
            <a:ext cx="36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56580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48652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405440" y="1988280"/>
            <a:ext cx="31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24000" y="234936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2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611280" y="2349360"/>
            <a:ext cx="4790880" cy="27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примеры в три столбика: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61128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6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2484360" y="2637000"/>
            <a:ext cx="116208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7,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211640" y="2637000"/>
            <a:ext cx="1104840" cy="25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ff"/>
                </a:solidFill>
                <a:latin typeface="Arial"/>
              </a:rPr>
              <a:t>с ответом 8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ff"/>
              </a:solidFill>
              <a:latin typeface="Arial"/>
              <a:ea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755640" y="2924280"/>
            <a:ext cx="890640" cy="139680"/>
            <a:chOff x="755640" y="2924280"/>
            <a:chExt cx="890640" cy="139680"/>
          </a:xfrm>
        </p:grpSpPr>
        <p:sp>
          <p:nvSpPr>
            <p:cNvPr id="287" name=""/>
            <p:cNvSpPr/>
            <p:nvPr/>
          </p:nvSpPr>
          <p:spPr>
            <a:xfrm>
              <a:off x="7556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09476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43424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"/>
          <p:cNvGrpSpPr/>
          <p:nvPr/>
        </p:nvGrpSpPr>
        <p:grpSpPr>
          <a:xfrm>
            <a:off x="755640" y="3141720"/>
            <a:ext cx="890640" cy="139680"/>
            <a:chOff x="755640" y="3141720"/>
            <a:chExt cx="890640" cy="139680"/>
          </a:xfrm>
        </p:grpSpPr>
        <p:sp>
          <p:nvSpPr>
            <p:cNvPr id="291" name=""/>
            <p:cNvSpPr/>
            <p:nvPr/>
          </p:nvSpPr>
          <p:spPr>
            <a:xfrm>
              <a:off x="7556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09476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43424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4" name=""/>
          <p:cNvGrpSpPr/>
          <p:nvPr/>
        </p:nvGrpSpPr>
        <p:grpSpPr>
          <a:xfrm>
            <a:off x="755640" y="3357720"/>
            <a:ext cx="890640" cy="139680"/>
            <a:chOff x="755640" y="3357720"/>
            <a:chExt cx="890640" cy="139680"/>
          </a:xfrm>
        </p:grpSpPr>
        <p:sp>
          <p:nvSpPr>
            <p:cNvPr id="295" name=""/>
            <p:cNvSpPr/>
            <p:nvPr/>
          </p:nvSpPr>
          <p:spPr>
            <a:xfrm>
              <a:off x="7556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09476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43424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627280" y="2924280"/>
            <a:ext cx="890640" cy="139680"/>
            <a:chOff x="2627280" y="2924280"/>
            <a:chExt cx="890640" cy="139680"/>
          </a:xfrm>
        </p:grpSpPr>
        <p:sp>
          <p:nvSpPr>
            <p:cNvPr id="299" name=""/>
            <p:cNvSpPr/>
            <p:nvPr/>
          </p:nvSpPr>
          <p:spPr>
            <a:xfrm>
              <a:off x="26272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96640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305880" y="29242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627280" y="3141720"/>
            <a:ext cx="890640" cy="139680"/>
            <a:chOff x="2627280" y="3141720"/>
            <a:chExt cx="890640" cy="139680"/>
          </a:xfrm>
        </p:grpSpPr>
        <p:sp>
          <p:nvSpPr>
            <p:cNvPr id="303" name=""/>
            <p:cNvSpPr/>
            <p:nvPr/>
          </p:nvSpPr>
          <p:spPr>
            <a:xfrm>
              <a:off x="26272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96640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5880" y="3141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2627280" y="3357720"/>
            <a:ext cx="890640" cy="139680"/>
            <a:chOff x="2627280" y="3357720"/>
            <a:chExt cx="890640" cy="139680"/>
          </a:xfrm>
        </p:grpSpPr>
        <p:sp>
          <p:nvSpPr>
            <p:cNvPr id="307" name=""/>
            <p:cNvSpPr/>
            <p:nvPr/>
          </p:nvSpPr>
          <p:spPr>
            <a:xfrm>
              <a:off x="26272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96640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305880" y="3357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4356000" y="2997360"/>
            <a:ext cx="890640" cy="139680"/>
            <a:chOff x="4356000" y="2997360"/>
            <a:chExt cx="890640" cy="139680"/>
          </a:xfrm>
        </p:grpSpPr>
        <p:sp>
          <p:nvSpPr>
            <p:cNvPr id="311" name=""/>
            <p:cNvSpPr/>
            <p:nvPr/>
          </p:nvSpPr>
          <p:spPr>
            <a:xfrm>
              <a:off x="43560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9512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034600" y="299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4356000" y="3213000"/>
            <a:ext cx="890640" cy="139680"/>
            <a:chOff x="4356000" y="3213000"/>
            <a:chExt cx="890640" cy="139680"/>
          </a:xfrm>
        </p:grpSpPr>
        <p:sp>
          <p:nvSpPr>
            <p:cNvPr id="315" name=""/>
            <p:cNvSpPr/>
            <p:nvPr/>
          </p:nvSpPr>
          <p:spPr>
            <a:xfrm>
              <a:off x="43560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69512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034600" y="3213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356000" y="3429000"/>
            <a:ext cx="890640" cy="139680"/>
            <a:chOff x="4356000" y="3429000"/>
            <a:chExt cx="890640" cy="139680"/>
          </a:xfrm>
        </p:grpSpPr>
        <p:sp>
          <p:nvSpPr>
            <p:cNvPr id="319" name=""/>
            <p:cNvSpPr/>
            <p:nvPr/>
          </p:nvSpPr>
          <p:spPr>
            <a:xfrm>
              <a:off x="43560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9512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034600" y="3429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356000" y="3645000"/>
            <a:ext cx="890640" cy="139680"/>
            <a:chOff x="4356000" y="3645000"/>
            <a:chExt cx="890640" cy="139680"/>
          </a:xfrm>
        </p:grpSpPr>
        <p:sp>
          <p:nvSpPr>
            <p:cNvPr id="323" name=""/>
            <p:cNvSpPr/>
            <p:nvPr/>
          </p:nvSpPr>
          <p:spPr>
            <a:xfrm>
              <a:off x="43560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69512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034600" y="36450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6" name=""/>
          <p:cNvSpPr/>
          <p:nvPr/>
        </p:nvSpPr>
        <p:spPr>
          <a:xfrm>
            <a:off x="902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902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902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77416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416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77416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288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288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0288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50288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26144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258920" y="3284640"/>
            <a:ext cx="2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126144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134520" y="32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134520" y="3068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134520" y="2852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861800" y="357336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861800" y="3357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61800" y="314172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861800" y="292428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395280" y="3860640"/>
            <a:ext cx="10476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3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684360" y="4149720"/>
            <a:ext cx="3363840" cy="190332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2191320" y="4684320"/>
            <a:ext cx="899640" cy="219960"/>
            <a:chOff x="2191320" y="4684320"/>
            <a:chExt cx="899640" cy="219960"/>
          </a:xfrm>
        </p:grpSpPr>
        <p:sp>
          <p:nvSpPr>
            <p:cNvPr id="349" name=""/>
            <p:cNvSpPr/>
            <p:nvPr/>
          </p:nvSpPr>
          <p:spPr>
            <a:xfrm rot="312000">
              <a:off x="2197080" y="4693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rot="312000">
              <a:off x="2534760" y="47239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312000">
              <a:off x="2872800" y="4754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118960" y="4892040"/>
            <a:ext cx="900720" cy="239400"/>
            <a:chOff x="2118960" y="4892040"/>
            <a:chExt cx="900720" cy="239400"/>
          </a:xfrm>
        </p:grpSpPr>
        <p:sp>
          <p:nvSpPr>
            <p:cNvPr id="353" name=""/>
            <p:cNvSpPr/>
            <p:nvPr/>
          </p:nvSpPr>
          <p:spPr>
            <a:xfrm rot="387600">
              <a:off x="2126160" y="490320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387600">
              <a:off x="2463120" y="494136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387600">
              <a:off x="2800440" y="4979520"/>
              <a:ext cx="212040" cy="14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2046600" y="5117760"/>
            <a:ext cx="899640" cy="219960"/>
            <a:chOff x="2046600" y="5117760"/>
            <a:chExt cx="899640" cy="219960"/>
          </a:xfrm>
        </p:grpSpPr>
        <p:sp>
          <p:nvSpPr>
            <p:cNvPr id="357" name=""/>
            <p:cNvSpPr/>
            <p:nvPr/>
          </p:nvSpPr>
          <p:spPr>
            <a:xfrm rot="312000">
              <a:off x="2052360" y="51267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rot="312000">
              <a:off x="2390040" y="515736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rot="312000">
              <a:off x="2728080" y="51883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2045880" y="5323680"/>
            <a:ext cx="900720" cy="239400"/>
            <a:chOff x="2045880" y="5323680"/>
            <a:chExt cx="900720" cy="239400"/>
          </a:xfrm>
        </p:grpSpPr>
        <p:sp>
          <p:nvSpPr>
            <p:cNvPr id="361" name=""/>
            <p:cNvSpPr/>
            <p:nvPr/>
          </p:nvSpPr>
          <p:spPr>
            <a:xfrm rot="389400">
              <a:off x="2053080" y="533520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389400">
              <a:off x="2390040" y="537372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389400">
              <a:off x="2727360" y="5411880"/>
              <a:ext cx="212040" cy="139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34252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227088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19780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19780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702880" y="4653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629800" y="486900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558160" y="5300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58160" y="5084640"/>
            <a:ext cx="25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684360" y="3860640"/>
            <a:ext cx="6114960" cy="289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Выпиши оставшиеся выражения и вычисли их значения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30072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5940360" y="4869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796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08472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6516720" y="436572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5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5364000" y="4437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6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514836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7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6659640" y="4653000"/>
            <a:ext cx="123840" cy="27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8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5580000" y="4724280"/>
            <a:ext cx="12384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9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716360" y="4149720"/>
            <a:ext cx="324828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3300"/>
                </a:solidFill>
                <a:latin typeface="Arial"/>
              </a:rPr>
              <a:t>Раскрась цифру новой планеты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ff3300"/>
              </a:solidFill>
              <a:latin typeface="Arial"/>
              <a:ea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00720" y="4149720"/>
            <a:ext cx="95040" cy="219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4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0" y="522936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5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932360" y="5229360"/>
            <a:ext cx="1871640" cy="20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смотри урок 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3"/>
          <a:stretch/>
        </p:blipFill>
        <p:spPr>
          <a:xfrm>
            <a:off x="6877080" y="4797360"/>
            <a:ext cx="855720" cy="854280"/>
          </a:xfrm>
          <a:prstGeom prst="rect">
            <a:avLst/>
          </a:prstGeom>
          <a:ln w="0">
            <a:noFill/>
          </a:ln>
        </p:spPr>
      </p:pic>
      <p:pic>
        <p:nvPicPr>
          <p:cNvPr id="38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233280" cy="2098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 txBox="1"/>
          <p:nvPr/>
        </p:nvSpPr>
        <p:spPr>
          <a:xfrm>
            <a:off x="4572000" y="5589720"/>
            <a:ext cx="104760" cy="21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6</a:t>
            </a:r>
            <a:endParaRPr b="1" lang="en-US" sz="1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932360" y="5661000"/>
            <a:ext cx="234324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cc"/>
                </a:solidFill>
                <a:latin typeface="Arial"/>
              </a:rPr>
              <a:t>Пропиши новую цифру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cc"/>
              </a:solidFill>
              <a:latin typeface="Arial"/>
              <a:ea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5"/>
          <a:stretch/>
        </p:blipFill>
        <p:spPr>
          <a:xfrm>
            <a:off x="684360" y="6093000"/>
            <a:ext cx="4824360" cy="76500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6"/>
          <a:stretch/>
        </p:blipFill>
        <p:spPr>
          <a:xfrm>
            <a:off x="755640" y="6308640"/>
            <a:ext cx="216000" cy="27144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7"/>
          <a:stretch/>
        </p:blipFill>
        <p:spPr>
          <a:xfrm>
            <a:off x="1187280" y="6308640"/>
            <a:ext cx="216000" cy="2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0" y="-42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Рисунок 1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636920" cy="116532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/>
          <p:nvPr/>
        </p:nvSpPr>
        <p:spPr>
          <a:xfrm>
            <a:off x="4211640" y="-472320"/>
            <a:ext cx="36720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064a2"/>
                </a:solidFill>
                <a:latin typeface="Arial"/>
                <a:ea typeface="Calibri"/>
              </a:rPr>
              <a:t>Лист самоконтроля №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Во время выполнения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                </a:t>
            </a:r>
            <a:r>
              <a:rPr b="1" lang="en-US" sz="1800" spc="-1" strike="noStrike">
                <a:solidFill>
                  <a:srgbClr val="c0504d"/>
                </a:solidFill>
                <a:latin typeface="Arial"/>
                <a:ea typeface="Calibri"/>
              </a:rPr>
              <a:t>используй эту подсказк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" name=""/>
          <p:cNvGraphicFramePr/>
          <p:nvPr/>
        </p:nvGraphicFramePr>
        <p:xfrm>
          <a:off x="1979640" y="981000"/>
          <a:ext cx="6769080" cy="5715000"/>
        </p:xfrm>
        <a:graphic>
          <a:graphicData uri="http://schemas.openxmlformats.org/drawingml/2006/table">
            <a:tbl>
              <a:tblPr/>
              <a:tblGrid>
                <a:gridCol w="4924440"/>
                <a:gridCol w="779400"/>
                <a:gridCol w="10652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Я выполнил(а) эти действ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збил(а) фигуры по указанному признак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Обвел(а) карандашом ча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Записал(а) выраж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числил(а) зна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15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Из столбика справа выписал(а) примеры с ответом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) примеры с ответом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примеры с ответом 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роверил(а), соответствуют ли они составу числа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Выписал(а )оставшиеся прим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Calibri"/>
                        <a:buAutoNum type="arabicParenR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шёл(а) их знач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Раскрасила цифру новой плане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Посмотрел(а) урок-презентацию Зелёного человеч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b0f0"/>
                          </a:solidFill>
                          <a:latin typeface="Calibri"/>
                          <a:ea typeface="Calibri"/>
                        </a:rPr>
                        <a:t>Задание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Написал(а) девять раз цифру 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9d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" name="" descr=""/>
          <p:cNvPicPr/>
          <p:nvPr/>
        </p:nvPicPr>
        <p:blipFill>
          <a:blip r:embed="rId1"/>
          <a:stretch/>
        </p:blipFill>
        <p:spPr>
          <a:xfrm>
            <a:off x="7020000" y="620640"/>
            <a:ext cx="1638360" cy="136548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3635280" y="1628640"/>
            <a:ext cx="2338560" cy="154800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3"/>
          <a:stretch/>
        </p:blipFill>
        <p:spPr>
          <a:xfrm>
            <a:off x="755640" y="2492280"/>
            <a:ext cx="1582920" cy="182736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187280" y="4365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4427640" y="3429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524720" y="242100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04292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356000" y="551664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236000" y="5589720"/>
            <a:ext cx="720720" cy="287280"/>
          </a:xfrm>
          <a:custGeom>
            <a:avLst/>
            <a:gdLst>
              <a:gd name="textAreaLeft" fmla="*/ 0 w 720720"/>
              <a:gd name="textAreaRight" fmla="*/ 721080 w 720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539640" y="6165720"/>
            <a:ext cx="1838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419640" y="6165720"/>
            <a:ext cx="2171520" cy="276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всё получилось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6156360" y="6237360"/>
            <a:ext cx="2647800" cy="22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ff"/>
                </a:solidFill>
                <a:latin typeface="Arial"/>
              </a:rPr>
              <a:t>не приступали к выполнению</a:t>
            </a:r>
            <a:endParaRPr b="1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66ff"/>
              </a:solidFill>
              <a:latin typeface="Arial"/>
              <a:ea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2916360" y="404640"/>
            <a:ext cx="3190680" cy="4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99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Лист самооценки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99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09:48:16Z</dcterms:created>
  <dc:creator>Sergey</dc:creator>
  <dc:description/>
  <dc:language>en-US</dc:language>
  <cp:lastModifiedBy>Sergey</cp:lastModifiedBy>
  <dcterms:modified xsi:type="dcterms:W3CDTF">2011-12-19T10:07:28Z</dcterms:modified>
  <cp:revision>12</cp:revision>
  <dc:subject/>
  <dc:title>Слайд 1</dc:title>
</cp:coreProperties>
</file>